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3944-07A6-4641-8787-B39299A16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FF70-BAB0-4E1A-B84C-C957E8686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safutures.com/sugartrad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9965-9A88-4516-9EF2-084FE69D3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762C-E6B6-4F91-BA97-243C36FC6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D894-A303-43F0-A562-1DAACE4A9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BB74-7EC0-4D05-8E30-C0D13B986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lm.nih.gov/medlineplus/ency/imagepages/8883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ancreas is mostly an exocrine gland (digestive enzymes to the intestines), but 2% is the islets of Langerhans, endocrine cell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F319-18F3-4D0B-A6AD-51300E888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health.howstuffworks.com/diseases-conditions/diabetes/diabetes1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2A9C-B39A-4FEF-92F5-7928D86DF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ohone09.wikispaces.com/Group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4F14-021B-4AE3-8B67-31936602C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images.yourdictionary.com/adrenal-gland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D204-F61D-4074-95B3-35D83FDC6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anford.edu/group/hopes/cgi-bin/wordpress/2010/06/stress-and-huntingtons-diseas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46E1-1CB4-4733-8030-9AA28EAF6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olumbiancentre.org/?p=31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E468-5B49-4DF8-B9DF-B63FD7B3B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ocietynews.org/diabet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E8E7-B9A3-4DCE-8756-91DC3D322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9A3-9195-4DAB-B83A-F7083423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EEF-C7C3-4CDD-B9EF-ACB8E8DA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9C4-8CA5-472A-AE58-F8314419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BAF-2CAA-452F-A257-C36C6EA4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A56-5BB0-4287-8026-7C94F932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B77-ABEC-4EA9-9539-498218B8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F7E-68E5-4749-8B8A-453A8693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B8D-BE30-48B0-8D48-2DFB3CB1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F93-E636-4AE8-A2D6-38AF40AD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518-A375-4E60-9F76-E92C903B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2D6-5D96-4E3C-B2A9-5AF961B8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F4B-55F8-4001-A48B-09E36969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86A7-7809-46B3-8DC1-734C7DDF2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gulating Blood Sugar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ype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cells in pancreas cannot produce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s in inf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is daily administration of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ype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production of insulin and/or the inability to bind to its receptors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develops in adulthood, strong genetic link &amp; association with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is controlled diet &amp; exercise and sometimes oral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statio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b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in some women during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crease risk of future development of diabetes in mother and/or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8883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ets of Langer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iabetes-pancreas"/>
          <p:cNvPicPr/>
          <p:nvPr/>
        </p:nvPicPr>
        <p:blipFill>
          <a:blip r:embed="rId1"/>
          <a:stretch/>
        </p:blipFill>
        <p:spPr>
          <a:xfrm>
            <a:off x="4954680" y="1981080"/>
            <a:ext cx="319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Glucose_Homeostasis"/>
          <p:cNvPicPr/>
          <p:nvPr/>
        </p:nvPicPr>
        <p:blipFill>
          <a:blip r:embed="rId1"/>
          <a:stretch/>
        </p:blipFill>
        <p:spPr>
          <a:xfrm>
            <a:off x="2004840" y="609480"/>
            <a:ext cx="513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i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cortex produces 3 types of hormones, including glucocortic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tis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lucocorticoid that has many actions, including raising blood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A4adregl"/>
          <p:cNvPicPr/>
          <p:nvPr/>
        </p:nvPicPr>
        <p:blipFill>
          <a:blip r:embed="rId1"/>
          <a:stretch/>
        </p:blipFill>
        <p:spPr>
          <a:xfrm>
            <a:off x="5097600" y="1981080"/>
            <a:ext cx="291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f_an1hpaaxis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lood glucose level is too high it can cause a condition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glyc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lood glucose level is too low it can cause a condition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glyc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iabetes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glycemia due to problems with insulin production and/o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 symptoms of diabe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 ur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h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ppet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6:29:18Z</dcterms:created>
  <dc:creator>rubina khan</dc:creator>
  <dc:description/>
  <dc:language>en-US</dc:language>
  <cp:lastModifiedBy>rubina khan</cp:lastModifiedBy>
  <dcterms:modified xsi:type="dcterms:W3CDTF">2017-05-03T13:57:15Z</dcterms:modified>
  <cp:revision>110</cp:revision>
  <dc:subject/>
  <dc:title>Hormones that Affect Blood Sugar  &amp; Reproductive Hormones</dc:title>
</cp:coreProperties>
</file>